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1F21-DA26-402F-B9BB-1D4EFC31B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0BB2-E1E0-494F-8DD2-3011586A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875FF-B090-4427-8C99-B08ACF17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964BE-456B-4757-A55C-651E4F9A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CBA6B-D30B-4539-B144-6A38BD35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B3A50-AAE3-4138-BB7A-A15FEFBB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87261-9927-4DCD-8308-EE6E059C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E90DA-3B97-43F0-8EA5-272EFD8F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3FAA3-1631-4CD4-B055-7165A30F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F8B0C-5DE8-41FC-9BAE-C86E9328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0EFBB-FD7E-49F8-AD5B-971F966D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ECF28-85C8-429F-8805-07FF2B3C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23FF-E936-4612-8295-4450D6E72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A9783-B7E5-45FD-B0C8-C50E178F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B4FA8-DD84-4B50-8281-13544B98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52FAA4-8C7F-4C0C-B1D6-B4FA7E86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115F4-0540-47E2-87B8-93DB5D64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9A81C3-CB28-414E-B7C6-D2672AD8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CBB5F-0CC2-40FF-860A-C3C70687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95432-C1EF-499F-B6D8-5E022740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807D7-7DA5-4E07-947B-2274362B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43B28-0F3E-4BF8-93F7-F6B4F0F1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69824-C41A-4BBC-8C3B-842545354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9A2E-D339-47C1-9CA5-6F07400DB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C26435-ADD7-4FA0-9F5A-313DDC51A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3E69D-A19A-4785-AC6D-0B2F41132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96BCF-101B-456E-ACB4-52C1814B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1ED52-201F-46E7-84F8-F3D2AE84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52E79-95B8-4534-B567-B70EACE7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0A93D-51CD-407F-B7B4-0543551C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EA3AF-DC90-4639-9F7B-0163EFD8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70B6E-E024-4069-946F-5F4BCA69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92D2C-2EA8-44D3-B1AA-B379F02F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2F4A4-6BCB-444E-8A82-BF914DF0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EB02-CC5A-4FB4-A2A1-B3FE5A39B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D17B1-59CE-4BB2-B5BE-5334A694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53131-36AE-43AB-B8EB-C8908E71E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7085F-5D73-40DA-80B9-7620F95E9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854035-C3B4-4C12-96D3-78B134A5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E931D-DF77-427B-A79A-74A159C8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80E7B7-A7C2-4BF8-8D1D-36B13FB7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6A4D1-7A47-4029-8418-999CB78D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694F7D-ECB4-4C80-BDD7-D432B4A6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B3923C-DD67-4C31-8D87-1ED4B759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F22696-4DF9-4502-A75D-A081A70F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0DED-0E6A-4B80-97C1-59FD770D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7C8ED2-D8E5-474D-98C1-E1DEDF2F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9DAD8-0358-4382-BEF8-11AC333E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FAB129-CB56-40AB-9F09-A0F4A39B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CA019-53E2-42DE-AD7B-51885F15B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EC694-2913-47E0-9FAC-728F0A61C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5C91DF-562B-47B3-93CB-16BAF4DA6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631A9F-93F5-4E6B-BAF3-93FF9E08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29B23A-AD34-4DD4-AE2C-A2D64353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1177AF-E764-4517-99A2-FD9E9AF6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17A31A-899F-4A9F-81C5-809C0FA0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E8E5-2975-415E-AB59-AC665F53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27EFFD-D1E0-4BA7-9D88-0D563BD9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2749DD-889C-4CAE-B4D4-652FFDED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DB2A25-76CE-4FBE-B0A4-8255CB7D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C4A963-A9DA-41F2-8FA7-B5688162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7C1BD1-27F1-4E2F-9EDA-04418A5D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5F85D4-F6A5-4F2D-9CE5-4EA10F70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1A2948-1BF6-4795-899E-8F761E0D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535045-BD13-483B-AD61-53B0420D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29FC45-E76B-4008-B294-9018B540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4BA5E9-8803-4140-A8F1-B4768195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1BFB-753C-421D-A702-7019F135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1FFDDA-CACC-4805-B0C9-797ECA33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15F1A7-94B6-4400-9519-421D57C6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3B81F7-177E-4A64-8E33-3368789D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8B08C4-6063-442F-AFE1-4C996335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ACA92D-318C-47AE-A6B6-E920A632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546B0A-79AB-4917-A8B8-C6756BEE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3EC631-E5C5-4529-969F-9DF60B67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7D750A-E647-4416-AA41-61AB43524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7BB6E6-1CBE-49F2-85D4-42AB0C96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D921EC-F5E9-4F77-8A2E-B785D7CC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B96A-396E-42C4-A4A4-A0F523D5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30968A-7CB0-4358-9D20-C00B25A4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0E5184-1742-465E-9ED5-2465F019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BAE8FB-8985-47C7-B6D3-0A984818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F6AAB3-5BC1-4556-91D7-317F75AE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A6D9B7-A39B-4D46-B3F9-EFDC7A81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0F1D83-9431-4AF8-83FC-C3AEEE3F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E3525A-34EC-472B-9CB3-EFCE38DC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FE2A38-A874-4FCD-B537-A4B3A12C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7F9729-EBB2-42E5-8788-D35256E3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28CAF9-4D7C-453D-B89E-9DE97B4C3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E4CB-C1E1-4883-8EDC-89046D8C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30739F-38B1-4F8B-B193-8ECB7589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551855-5794-45F3-8605-F6ADD622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D71CEB-C13E-4D48-8C5C-28D4F6D5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212737-5C12-4FB0-9751-74D8A83E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0F831E-CFA4-4F78-9263-66ED3A87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C14108-C848-462C-AD8D-B4E95DE1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E60CC4-D691-4513-AC03-AA77D520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18133E-382E-404A-9B19-354DF2BC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13A073-D3C6-4D34-B595-4331A3C7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5293BE-8FD0-430A-9C3D-5AD194E5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CEA4-FCD6-4614-A86E-F235835F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93AA8D-0DF0-4310-933D-0BAAD565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B72D71-5B5E-4543-B553-BB4424C74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068845-1818-4E85-9F91-8BBECFFE2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A47F25-85F2-44AF-9FF2-888B5E740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C4C91A-860C-4784-9961-5D1FDB32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9AA643-5FB1-4A0B-83D2-32EDF555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50CC58-0DF6-49C2-B665-8E3CF3B6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71A210-0024-43B4-824A-7C18309B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BADE43-1FF8-4A26-9461-DD401805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945253-3E6A-4A5C-BD2E-45C5D375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F986-E107-4FC7-97CD-415227EE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18FD-0978-431F-829F-335594E6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72FDB8-49B3-4438-B21D-DDE5BD8A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A22634-D473-454F-943F-5E36AD8C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F3CE58-2A4C-4535-98F3-EE8A2FF1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A48DBD-7780-475E-AF4C-D0E1BC1A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988C8B-C99E-4E63-A433-97772D17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C8C58D-644F-4C6B-A31D-1F46C6D6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C16948-FC03-4D99-A0CA-AC8C32EB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9C6E91-8FE8-4B78-BF84-54B69DFF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CD0B17-0815-4B59-84FC-46A033D6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65FB32-C869-4E0A-8B9C-F63B36D7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31F9-6BFE-4312-BE63-41316FAC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9F8A3F-2DEF-4FB6-9013-653247CD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F88F59-8030-4B71-9D59-4B372612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5C42AB-7E46-47D6-A297-23BD01B3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B1B017-3DC3-426A-A101-3F47674B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14D1B5-6026-4DAC-8D93-E7708D7E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49409E-B987-445F-90FF-8BD6BCB96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542B05-EE5C-4CAA-863C-DDB7396AC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6BBE0F-F841-4599-B715-BBFF8F58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C45180-B152-4A43-BB2A-23C6E5B9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D3BC62-5D70-41B7-83FD-82FF1C0C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FBD0-D2FD-43F0-A049-03776AC4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A051BD-0370-45EE-A908-4C8578B6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E7D774-6CA5-4904-A8EC-6DBA7662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8C691B-ADD7-4418-90F2-ED6BFD91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F187BB-784A-4AF6-8E1A-C35CF032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2A9412-9485-4C83-92FB-D3D9AD9A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424B8C-A2CE-4D1E-90C2-D30DA522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2310D9-2022-4C98-9A93-7A6C919E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2CA1A8-6C20-4E40-897F-DD28B97C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31032E-0918-4F49-BECE-07EBF5416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65B74B-00CA-4B6E-9306-BEBE6B44D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5A2D-DF1F-492B-9F98-B1ADC6D9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5E26B4-99FE-467E-AA38-E665EB64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52CD3F-A73B-487D-9552-7C36E360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2DD09A-B61E-43AD-AB0E-A86DBBB5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F1B28A-7187-4D22-886B-3A0B7294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76F5EB-27D6-4426-A909-2CF030EA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975D65-5055-438D-AF6B-D579C93B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808863-CCD2-4FC2-9842-8A018B0A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1930D2-4C6D-493B-B2DA-A770F09A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7B70BA-7087-4FE6-BC17-F30883B3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F47302-A1E6-443E-9ADF-63A01F67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2DBF-BB55-4D32-81FC-C48EC234A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60BA54-01E1-4E58-BEAB-C0E6627C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1537A7-F544-4663-81F4-341885364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502B83-7094-43AB-ADAD-EF4177AD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3895C9-89EC-4ED9-8340-AEAF101E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B011BF-0C60-4D4E-BC3F-AC53E877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F9C287-BEFD-4BF7-8D90-D2C4BAB2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0D58DD-77DF-4120-8A3D-0DAF0355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DE7B1C-DA8E-4C61-8363-CA2418BE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C4AF78-F429-4AB1-8FFC-16367AB8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D5F32F-F9E2-4265-9217-2F9FCB21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BC423-E22B-4DF2-9E9F-525AED5B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FCCA10-C01B-47C1-BAE1-6E3E8E9D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97C324-CEC1-4EE9-A583-6F4651D6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23CFC6-A939-4FC1-9F34-BC7DE43B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18F9F-C881-4FE9-B10D-36EC3F51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C5DF9-EC47-476A-A694-F78A328A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CFA9F-F533-4608-9B82-EFE47F95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A1681-FF71-405A-9735-9F549950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AF45-B75A-41B0-AF28-8D8C1058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B3839-43D1-4892-9C5A-8DB459DA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1949F-75C1-4847-8A3A-D9EF83B1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B061C-0803-4838-9BFE-4747908F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CDB04-0BD5-42EA-B55D-B4FD10E8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A4285-6955-4CC7-908C-1FC06AD3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11992-1067-4D64-ABF5-22821684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BD858-CC3E-4398-85BB-C912A1D72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EFF5D-BC49-4247-9177-BF097782B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B2BD7-9DBD-4E25-954A-7AC785C9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0DB21-4C91-4F6E-97AE-DF88CEC1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58EA-522D-47DD-8FDE-9536CF9E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1B012-9406-49B3-B8ED-35319459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DDC1C-CAD6-471D-944C-550C9A66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24139-6352-4F84-A2AD-02C095CD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2FAD2-AB45-402D-8390-E4B1C90D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D755E-9B9F-404E-AC92-8AA9C1B0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71D87-B160-48D4-97E0-276CFD8F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A28B4-0D75-47C0-9E17-459B6AC4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F9DB1-DFB8-408F-AAB4-87583A99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2AC04-00F2-4A41-B432-853CE3B21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461E0-8E43-43E6-9D5C-37DCCCCBE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3566-F52E-48E0-A8B6-0F05B6BF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0DADE-DEF5-451D-9E96-0E241B3A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0A4AF-51F8-486D-A087-367860E9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602CC-A1DF-4890-B971-A6E9C386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D5646-17F2-4EDB-861D-ED0391DC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19FB6-AFBA-46DF-80F1-421A7B53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5ACD6-4959-4D3F-98C8-A69DCA6C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301C8-4A5C-4899-AE1A-3ACCAC39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359C9-1F59-490D-A461-E6CA30B4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390FC-9C13-4277-AA2B-0AA08A61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5D0DA-24FE-40B0-BD2D-2B33BDC5A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4759-6992-441A-9300-227DED96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BD4C1-F7B4-451C-83E2-FD0613A3D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DE37F-3D24-4154-A215-31B5006FD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F11DA-9F57-4841-9CBB-04D48BFA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99A31-FD07-429D-A1D4-F24DE003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97E5C-3CDA-4184-BB1F-C6E56F23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AD23B-CB0A-4699-8660-14E5F035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223F2-9372-4400-B46F-D7E32031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DDD85-366D-4B70-A7D2-A606533E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EDD80-23DA-4475-923F-61CB3176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F26C1-C197-413E-A924-BED28249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F968-4E37-408D-BD98-2FA1A5F6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FC8D3-931A-426C-83C9-3B060723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6B7D3-5E54-4C42-9D76-62048AF7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6A365-86E2-437C-BD1D-CDFA8859E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1460B-8111-430D-AC40-95B8BF79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5C8E7-C652-4E4A-ADE7-C1E7A75A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F9184-F8CE-4936-A7FE-9F0C1C75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53939-892B-4CB7-A98E-6941A631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26BF6-985C-45D7-B8AD-D5556234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23823-1405-468B-83DF-D0F2269B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300BB-19B2-42D0-A0F6-88F210EB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BAA2-FB8B-4BE5-9DE4-CDB0025B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A0494-4792-4715-95F0-69B42D1C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6E456-16B0-492C-ACBD-A8F7474A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F27BC-3E28-43F8-B997-E4EDA869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87729-50C9-4FDD-A455-EF00899CE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224BA-B5E2-4627-B9BA-66E441F7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86DC3-3C6D-4604-8188-827E8C4AE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A2C14-EA87-4E7E-B415-0776C891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4FE22-0DC4-40E4-BF7D-D755D392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A02C9-F800-408F-9FA5-367A4C92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9BDCD-77F5-4DAC-B701-30263A3C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A474-D62E-44A5-A075-A8E36452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387E6-3D35-4F83-A809-7BF8BACA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E64C3-4C08-445D-8816-FFCA19CB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F1506-DC8B-497A-B88C-7D75A1EE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B5F92-8052-40BA-9838-C0D5070A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27D0C-2939-4766-B738-CA940E88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F1A95-A933-40B9-8F26-8132E8D3E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5BD45-7C10-4223-896F-EB64335F5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DEF1F-6F4B-47B9-B1E2-38F850879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128BA-95D5-41A7-B51C-B873369B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A1AEBD-0986-4514-9E25-C7DF1039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FCC6-50E4-4D09-BB96-94DEA735DA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60D1-B39D-4B92-9A0B-314EF17FF2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3B92-2147-4A8C-BEBE-7BFD6D48E7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8126-DA37-4E46-8599-0707C027A5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E8F7-33D4-4FDF-B2A0-DB5EDA7DE1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7AC1-C300-411B-B1B9-695C052626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B862-C061-40D1-9D15-F69750B976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80A7-5966-4BF5-9604-B12609BE07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25D3-2115-4CF6-BA49-1D8CC7FA4F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52ED-063B-438C-9150-2E4735BCC6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BA39-B1C8-4377-930D-9F2960B37E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BC55-8AAE-4E35-8688-490B76BF85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CBE0-B719-4F19-A9EC-2BC3C79627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A7BC-4BAD-4302-B75D-75B7D4F6C8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EED1-D206-404A-913D-A70E492236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3DBD-DE48-4DBC-ABD9-A9F62A277B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16FC-DF4C-46FA-B024-40378A3F7D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7C3F-A457-4AE1-853E-41AF775848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F9FD-6EBA-445F-A946-36A111AE5C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81BF-6E91-4E86-9B22-C079CA35EC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6BD8-C7C2-4D50-84E0-037A131F4F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A6A7-3F9C-4E8D-8C2D-83FF0A1C58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9E79-6DBB-4A68-A869-00BE1A3366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2A24-B72F-42AF-AEDF-EE4EF8E221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B83F-1FA9-4545-A466-0E55A9E80C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AEFB-21D8-4A70-973C-D78286066F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D21C-0163-4C37-A79F-C914CA3F11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DC56-04D4-47CF-99BE-EC0D780BE9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B792-18BE-4701-B0D3-CCDAA891A3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409B-D7E1-45B1-BE0A-17DD752F3A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249B-0017-4E12-A693-29B7C3E796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47D4-E63E-4B49-BD66-31ABB6F042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58B7-4804-4A10-83C3-58E2DBE25D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1ED6-E476-4F14-9C23-A45DAFBDB5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8EA9-589E-4105-A916-A5519B0225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B18B-2530-4023-B5EB-24F48063C0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F56D-A4E9-44F5-9B60-55BCD6330A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D90B-1A8F-41FB-9BC2-85998E97EF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03F9-6ABE-4458-B8B6-8AA76DDB65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C276-A37D-46CF-8E5C-03FA78F710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305080" y="3191040"/>
            <a:ext cx="4533840" cy="47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52440" y="493560"/>
            <a:ext cx="8439120" cy="62485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720800" y="256536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203640" y="2565360"/>
            <a:ext cx="863640" cy="3189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4859280" y="256536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6588000" y="2224080"/>
            <a:ext cx="289080" cy="2160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7020000" y="2430360"/>
            <a:ext cx="288720" cy="2160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2714760" y="5661000"/>
            <a:ext cx="431640" cy="3189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2700360" y="6021360"/>
            <a:ext cx="431640" cy="3189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2700360" y="6394320"/>
            <a:ext cx="431640" cy="3193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7337520" y="5661000"/>
            <a:ext cx="431640" cy="3189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7323120" y="6021360"/>
            <a:ext cx="431640" cy="3189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7323120" y="6394320"/>
            <a:ext cx="431640" cy="319320"/>
          </a:xfrm>
          <a:prstGeom prst="rect">
            <a:avLst/>
          </a:prstGeom>
          <a:ln w="0">
            <a:noFill/>
          </a:ln>
        </p:spPr>
      </p:pic>
      <p:pic>
        <p:nvPicPr>
          <p:cNvPr id="934" name="图片 60440" descr=""/>
          <p:cNvPicPr/>
          <p:nvPr/>
        </p:nvPicPr>
        <p:blipFill>
          <a:blip r:embed="rId13"/>
          <a:stretch/>
        </p:blipFill>
        <p:spPr>
          <a:xfrm>
            <a:off x="1327320" y="3527280"/>
            <a:ext cx="72482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9410" descr=""/>
          <p:cNvPicPr/>
          <p:nvPr/>
        </p:nvPicPr>
        <p:blipFill>
          <a:blip r:embed="rId1"/>
          <a:stretch/>
        </p:blipFill>
        <p:spPr>
          <a:xfrm>
            <a:off x="252360" y="890640"/>
            <a:ext cx="8639280" cy="5076720"/>
          </a:xfrm>
          <a:prstGeom prst="rect">
            <a:avLst/>
          </a:prstGeom>
          <a:ln w="0">
            <a:noFill/>
          </a:ln>
        </p:spPr>
      </p:pic>
      <p:pic>
        <p:nvPicPr>
          <p:cNvPr id="936" name="图片 59411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3905280" cy="12765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684360" y="4797360"/>
            <a:ext cx="6696000" cy="3193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6130800" y="2421000"/>
            <a:ext cx="287640" cy="2556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6262560" y="2662200"/>
            <a:ext cx="287640" cy="2556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6"/>
          <a:stretch/>
        </p:blipFill>
        <p:spPr>
          <a:xfrm>
            <a:off x="684360" y="5157720"/>
            <a:ext cx="6696000" cy="7192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7"/>
          <a:stretch/>
        </p:blipFill>
        <p:spPr>
          <a:xfrm>
            <a:off x="8388360" y="28526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8"/>
          <a:stretch/>
        </p:blipFill>
        <p:spPr>
          <a:xfrm>
            <a:off x="8375760" y="323856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9"/>
          <a:stretch/>
        </p:blipFill>
        <p:spPr>
          <a:xfrm>
            <a:off x="8459640" y="3586320"/>
            <a:ext cx="287640" cy="2556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10"/>
          <a:stretch/>
        </p:blipFill>
        <p:spPr>
          <a:xfrm>
            <a:off x="8532720" y="39974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11"/>
          <a:stretch/>
        </p:blipFill>
        <p:spPr>
          <a:xfrm>
            <a:off x="8532720" y="436572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12"/>
          <a:stretch/>
        </p:blipFill>
        <p:spPr>
          <a:xfrm>
            <a:off x="8532720" y="47498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13"/>
          <a:stretch/>
        </p:blipFill>
        <p:spPr>
          <a:xfrm>
            <a:off x="8375760" y="512280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14"/>
          <a:stretch/>
        </p:blipFill>
        <p:spPr>
          <a:xfrm>
            <a:off x="8447040" y="5516640"/>
            <a:ext cx="287280" cy="2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8:02:57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